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A3E2-68E6-4219-B766-4B0D4E0A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7993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82480"/>
            <a:ext cx="7993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BAD5-18C3-44FC-BF05-8A83CBEA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8248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418248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E3F6-75FB-484B-8B5A-C76BAAB1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69992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4680" y="169992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8248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418248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4680" y="418248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BD69-C7B9-4168-945C-BEDA3DF5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3C79-7E10-464C-BF09-49DEAE80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BDDD-0227-4E9F-BE0E-850A03F1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BB9F-93CA-400A-8566-BC7FE340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3900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1699920"/>
            <a:ext cx="3900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E52D-CCAD-4C8E-AF93-AB28CE79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8B6D-FE52-4F56-A6EA-2DBE93C8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280" y="357120"/>
            <a:ext cx="799308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55E9-8ABE-425B-919C-0F4F5305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1699920"/>
            <a:ext cx="3900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280" y="418248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0761-8138-45E0-BBDA-9AF619E0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D97C-C403-4023-BF93-37DC60F6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3900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418248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965C-273D-4C5D-90EA-79DE803A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280" y="4182480"/>
            <a:ext cx="7993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5816-9214-4FBB-ACFD-B4F239CD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7993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280" y="4182480"/>
            <a:ext cx="7993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FB11-FD3D-4F13-A67E-BB6A28F5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280" y="418248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418248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C33A-0031-40B6-B744-0F9B7343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2160" y="169992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4680" y="169992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280" y="418248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2160" y="418248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4680" y="418248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02A9-AC7C-4288-B9C1-DF23B8CE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F969-871C-4CFD-B059-A0FBAA13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3900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1699920"/>
            <a:ext cx="3900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CD06-9FEA-4475-9A89-C9698E4F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DE8E-DBD1-4A38-A8D1-3B6277DB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57120"/>
            <a:ext cx="799308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17D3-4427-4E7A-99AC-A79C0790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1699920"/>
            <a:ext cx="3900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8248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860F-59A9-4364-9CDB-4B14DFD2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3900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418248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8D31-8228-45A5-8888-9B41ED78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82480"/>
            <a:ext cx="7993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6D34-AA62-49F5-BEE5-C3306631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59FB-46BC-4CC1-91DB-CE7796B23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5732-53E0-44E7-ADAB-88255AF67E27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3071880"/>
            <a:ext cx="6934320" cy="127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3366"/>
                </a:solidFill>
                <a:latin typeface="Arial"/>
              </a:rPr>
              <a:t>Psychology of Personal Effectiveness</a:t>
            </a:r>
            <a:endParaRPr b="0" lang="en-US" sz="4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71680" y="4323240"/>
            <a:ext cx="264312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2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357120"/>
            <a:ext cx="878544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Arial"/>
              </a:rPr>
              <a:t>Four Generations of Time Management</a:t>
            </a:r>
            <a:endParaRPr b="0" lang="en-US" sz="3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olved from the demands of modern lif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notes and checkli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appointment books and plann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prioritization, goal-set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se become the most important thing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ople get bogged down just focusing on the goal/schedu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effectiveness rather than effici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ganize your schedule around your priorities instead of prioritizing your schedu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2000"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rgency vs. Importa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9640" y="1700280"/>
          <a:ext cx="7993080" cy="4654440"/>
        </p:xfrm>
        <a:graphic>
          <a:graphicData uri="http://schemas.openxmlformats.org/drawingml/2006/table">
            <a:tbl>
              <a:tblPr/>
              <a:tblGrid>
                <a:gridCol w="3997440"/>
                <a:gridCol w="399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uadrant I Urgent &amp; Importa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uadrant II Non-Urgent &amp; Importa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ris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ssing problem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jects with deadlin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ome meeting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ome preparation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active activiti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ng-range plann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twork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lationship build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vention/Mainten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uadrant III Urgent but Not Importa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uadrant IV Not Urgent or Importa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ruption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ome phone call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ome meeting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ome reports/some mai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ny pressing matter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usywork, trivi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ome phone call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ome mail/junk mai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leasant activiti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2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rgency vs. Importa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ost people spend the majority of their time doing Q3 activiti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Key is to being more effective is to spend that time on Q2 activiti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urn, this helps shrink Q1 activit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2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ocrastin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ver do anything today that you can put off until tomorrow.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ers anxiety related to a task in the short run (an escape) but increases it in the long ru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udying for an upcoming tes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ten caused by poor frustration tolerance and an inability to defer gratification (self contro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present discomfort is too much to bear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ed to learn to wait for our rewa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2000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ocrastin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 lot of people put off tasks until they “feel” like doing them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blem is they could wait forever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 change your attitude about the task, your behavior towards it will follow s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rocrastination Questionnaire on pg.173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2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8920" y="357120"/>
            <a:ext cx="87138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3366"/>
                </a:solidFill>
                <a:latin typeface="Arial"/>
              </a:rPr>
              <a:t>Six Steps to Overcome Procrastination</a:t>
            </a:r>
            <a:endParaRPr b="0" lang="en-US" sz="3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t and Pieces Appro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reak down tasks into doable chun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an implementation pla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lls you when, where, and how to star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tting Organiz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ke To Do Lists, Create a Schedule, &amp; Do it when  You Think of 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ify Your Work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move distractions, unnecessary papers, or objec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lock Off escape rou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urn off the phone’s ringer, silence the cell phone, close the door, turn off the TV, gather all the materials you’ll ne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2000"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ve Minute Metho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ve yourself 5 minutes to work on a task you have been procrastin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fter 5 minutes, you can stop or you can ask yourself if you’re willing to invest 5 more minu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 honest with yourself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on’t Wait for Inspir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nius is 1% inspiration &amp; 99% perspiration.” – Thomas Edis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78920" y="357120"/>
            <a:ext cx="87138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3366"/>
                </a:solidFill>
                <a:latin typeface="Arial"/>
              </a:rPr>
              <a:t>Six Steps to Overcome Procrastination</a:t>
            </a:r>
            <a:endParaRPr b="0" lang="en-US" sz="3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2000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ward Yoursel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crastination persists because of the immediate reward of relief for task avoidan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mack principle – an enjoyable activity can be used as a reward for completion of a dreaded tas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: if you write the paper, you can go see a movi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fit-Penalty System – use rewards and punishments togeth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: Write the paper, go to a movie. Don’t write it, then you clean the garag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ew Mistakes as Feedba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78920" y="357120"/>
            <a:ext cx="87138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3366"/>
                </a:solidFill>
                <a:latin typeface="Arial"/>
              </a:rPr>
              <a:t>Six Steps to Overcome Procrastination</a:t>
            </a:r>
            <a:endParaRPr b="0" lang="en-US" sz="3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2000"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Effective Studen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mproving Memory Reten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y attenti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arn the material very well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rganize the material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 rehearsal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nimize route memorizati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rite it dow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 memory aides (mnemonics, acronyms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duce interference &amp; distraction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troactive interference – new learning interrupts old learni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x: You are learning French, and you forget Spanish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active interference – old learning interrupts new learni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x: You are learning French, but you confuse Spanish words for French word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leep on i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stribute learning session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ercis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est yourself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 aware of the influence of learning context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2000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Effective Studen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Effective Study Method – SQ3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rvey – look over the chapter and what it co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estion – skim the chapter and write down questions that come to mi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ad – carefully read the chapter and find answers to your ques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ite – write, in your own words, what you learn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etend that you’re explaining the material to a frie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view – go over the material carefully, answering end of chapter questions and making sure you know all the key word defini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2000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anage Yourself in Tim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Effective individuals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e very produc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lete tasks in a timely mann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e well organiz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uggle multiple responsibil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e the “big picture” while focusing on the specific details of getting something d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2000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Effective Studen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Art of Taking Te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asuring Test Anxie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erkes-Dodson La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st Anxiety Questionnaire on pg.18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tice Active relax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cognitive restructur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sualize succ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stwisen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arning strategies for guessing the right answ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your time wise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cognize cues within the test that point to the correct answ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2000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Effective Studen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rlier or later questions can reveal the answer to a ques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oices that are implausible or improbable can be elimina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 similar choices can be elimina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rrect answers are more detailed, longer, and specifi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ware of inclusive words lik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alway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nev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ever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mmatical inconsistencies in the cho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2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ight Strategies for Succes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cus First on High Priority Item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eto principle/(80/20)rule – 80% of the benefits come from doing 20% of the wor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gure out the most important and beneficial 20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facilitates the remaining 80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vey suggests a continuum of low to high importance based on your life goals as define by your personal mission stat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ott suggests concentric circ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2000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21"/>
          <p:cNvSpPr/>
          <p:nvPr/>
        </p:nvSpPr>
        <p:spPr>
          <a:xfrm>
            <a:off x="1908000" y="765000"/>
            <a:ext cx="5616720" cy="5256360"/>
          </a:xfrm>
          <a:prstGeom prst="ellipse">
            <a:avLst/>
          </a:prstGeom>
          <a:solidFill>
            <a:srgbClr val="009900">
              <a:alpha val="25000"/>
            </a:srgbClr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Oval 22"/>
          <p:cNvSpPr/>
          <p:nvPr/>
        </p:nvSpPr>
        <p:spPr>
          <a:xfrm>
            <a:off x="2556000" y="1341360"/>
            <a:ext cx="4390920" cy="4103640"/>
          </a:xfrm>
          <a:prstGeom prst="ellipse">
            <a:avLst/>
          </a:prstGeom>
          <a:solidFill>
            <a:srgbClr val="003366">
              <a:alpha val="44000"/>
            </a:srgbClr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Oval 32"/>
          <p:cNvSpPr/>
          <p:nvPr/>
        </p:nvSpPr>
        <p:spPr>
          <a:xfrm>
            <a:off x="3419640" y="2060640"/>
            <a:ext cx="2736720" cy="2592360"/>
          </a:xfrm>
          <a:prstGeom prst="ellipse">
            <a:avLst/>
          </a:prstGeom>
          <a:solidFill>
            <a:srgbClr val="00ccff">
              <a:alpha val="32000"/>
            </a:srgbClr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Text Box 33"/>
          <p:cNvSpPr/>
          <p:nvPr/>
        </p:nvSpPr>
        <p:spPr>
          <a:xfrm>
            <a:off x="1042920" y="47242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rginal tas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Text Box 34"/>
          <p:cNvSpPr/>
          <p:nvPr/>
        </p:nvSpPr>
        <p:spPr>
          <a:xfrm>
            <a:off x="1042920" y="2205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econdary matte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Text Box 35"/>
          <p:cNvSpPr/>
          <p:nvPr/>
        </p:nvSpPr>
        <p:spPr>
          <a:xfrm>
            <a:off x="3635280" y="2997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entral concer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 advTm="12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ight Strategies for Succes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Group Related Tasks &amp; Do Them Togeth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le to perform the tasks fas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Get Organiz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To Do Li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eck off items in progress and scratch off when comple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a realistic schedu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t rid of unnecessary pap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eak it into do-able chu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2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ight Strategies for Succes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 and Use Timeta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t up deadli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cus on One Thing at a 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n’t do two (or more) things that require concentration at o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: talking on the phone and studying for a te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nish It Ful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finished work can feel frustra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ows for better concentration on the next tas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It When You Think of It (when possibl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uts down on forgetting and inefficie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2000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57120"/>
            <a:ext cx="87138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Arial"/>
              </a:rPr>
              <a:t>Common Time-Wasters &amp; Antidotes</a:t>
            </a:r>
            <a:endParaRPr b="0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low Decision-mak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 from options that meet your go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are &amp; contrast th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orry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t aside time in your schedule to wor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ttempting to do things perfect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ds to failure, frustration, &amp; procrastin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ust focus on doing things w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2000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357120"/>
            <a:ext cx="87138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Arial"/>
              </a:rPr>
              <a:t>Common Time-Wasters &amp; Antidotes</a:t>
            </a:r>
            <a:endParaRPr b="0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orking Against Your Body Rhythm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ider what time of the day you have the most energy and are the most ale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ning person or Night owl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hedule difficult tasks at this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ailing to Recharge Your Batteri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 hard, play hard, and relax h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wer naps &amp; “Mental health day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2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357120"/>
            <a:ext cx="87138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Arial"/>
              </a:rPr>
              <a:t>Common Time-Wasters &amp; Antidotes</a:t>
            </a:r>
            <a:endParaRPr b="0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eling That You Are Responsible for Everyt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legate to oth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ay NO to items that are low priority to yo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tting Stuck Wai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ring portable work to 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ad a book, work on a laptop, balance the checkbo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rting Your Day Off on the Wrong Foo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ts the tone for the rest of your d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f it’s bad, it takes a lot of energy to put it behind you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-stress &amp; streamline your morn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can be done the night befor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ke up 10 – 15 minutes earlier for wiggle roo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2000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05:36:26Z</dcterms:created>
  <dc:creator/>
  <dc:description/>
  <dc:language>en-US</dc:language>
  <cp:lastModifiedBy>Bright</cp:lastModifiedBy>
  <dcterms:modified xsi:type="dcterms:W3CDTF">2013-08-23T08:22:32Z</dcterms:modified>
  <cp:revision>50</cp:revision>
  <dc:subject/>
  <dc:title>Psychology of Personal Effectiven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81033</vt:lpwstr>
  </property>
</Properties>
</file>